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8DB2B-80D3-47F0-95CA-012FED9314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C9AF5-A0E5-4BBC-810A-CDE08BDBA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Warmup Review vowel sounds wit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27B4D-66A3-460F-9A77-57EB05F07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E44-0F02-4905-A485-0372B17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74C-4CE9-4106-874C-B482134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48-728D-49BF-88EE-EDE20983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4CC-8C78-4846-B4B7-23F27956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E55-513B-4E09-B4EA-0B3675D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9C2-9D25-4790-81B0-1EAE99D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E44-E0B8-41EF-9828-035DC7A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CB6-5318-46D7-951D-6AAE71B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034-A913-4234-A1CD-38BF1C3D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F05-84F3-4F90-B31A-2F0AA8B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474-AAB0-4F0B-A7BA-455F601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B78-6BE0-46A4-B4F8-9DA5D7E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ACE99-E6A3-44AC-B8DC-EA008A10E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96E00-ADD7-481B-A8A0-B5D2D446F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新細明體"/>
              </a:rPr>
              <a:t>Vocal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(Vowels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in Spanish are always pronounced the same.  They never change.  Learn the sounds and always pronounce them the same way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A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E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I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O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U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4843197-close-up-of-little-boy-opening-mouth-for-dental-checkup-in-stomatological-office"/>
          <p:cNvPicPr/>
          <p:nvPr/>
        </p:nvPicPr>
        <p:blipFill>
          <a:blip r:embed="rId1"/>
          <a:stretch/>
        </p:blipFill>
        <p:spPr>
          <a:xfrm>
            <a:off x="896760" y="457200"/>
            <a:ext cx="1600200" cy="107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didl"/>
          <p:cNvPicPr/>
          <p:nvPr/>
        </p:nvPicPr>
        <p:blipFill>
          <a:blip r:embed="rId2"/>
          <a:stretch/>
        </p:blipFill>
        <p:spPr>
          <a:xfrm>
            <a:off x="896760" y="1981080"/>
            <a:ext cx="95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ssmjLyFdUmEmS84xl23jGMLWy13MLK3wSuZjaBOrcFG_s85hPH9J9Afw"/>
          <p:cNvPicPr/>
          <p:nvPr/>
        </p:nvPicPr>
        <p:blipFill>
          <a:blip r:embed="rId3"/>
          <a:stretch/>
        </p:blipFill>
        <p:spPr>
          <a:xfrm>
            <a:off x="896760" y="3352680"/>
            <a:ext cx="118116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resent"/>
          <p:cNvPicPr/>
          <p:nvPr/>
        </p:nvPicPr>
        <p:blipFill>
          <a:blip r:embed="rId4"/>
          <a:stretch/>
        </p:blipFill>
        <p:spPr>
          <a:xfrm>
            <a:off x="896760" y="4495680"/>
            <a:ext cx="164628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gone%202"/>
          <p:cNvPicPr/>
          <p:nvPr/>
        </p:nvPicPr>
        <p:blipFill>
          <a:blip r:embed="rId5"/>
          <a:stretch/>
        </p:blipFill>
        <p:spPr>
          <a:xfrm>
            <a:off x="825480" y="5529240"/>
            <a:ext cx="16714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0:01:33Z</dcterms:created>
  <dc:creator>Mac</dc:creator>
  <dc:description/>
  <dc:language>en-US</dc:language>
  <cp:lastModifiedBy>Mac</cp:lastModifiedBy>
  <dcterms:modified xsi:type="dcterms:W3CDTF">2011-10-11T00:04:50Z</dcterms:modified>
  <cp:revision>1</cp:revision>
  <dc:subject/>
  <dc:title>Vocales (Vowels) in Spanish are always pronounced the same.  They never change.  Learn the sounds and always pronounce them the same way! </dc:title>
</cp:coreProperties>
</file>